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0522-8F60-4181-AADF-13C82C8304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8AFD-9C51-4A6A-BF19-EA404D75A3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F7A-4E1C-4C7D-968D-C465826E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89C-E53F-4824-8224-688614EF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1974-040B-43DE-9673-18D777F7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BB6-74E7-4E40-89B7-48BF623A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2BD-55B0-4C31-80BD-F729DEA1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741-4410-4323-AAEB-00D9466C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27D-A005-4E7E-BB33-C2D9230A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B9B-F361-45E7-B634-58D342E7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AA2-8FAA-4AA0-AB51-C70E8D0D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DFA-8B71-4F99-B545-C2A1E4E6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476-30ED-4495-90B8-13664A21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E05C-76EB-4860-87E2-B936C9BE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BE5C-A489-4966-A52D-C9138720F64B}" type="slidenum">
              <a:rPr b="1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26960"/>
            <a:ext cx="7545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alibri"/>
              </a:rPr>
              <a:t>ТАТАРСТАНСКАЯ РЕСПУБЛИКАНСКАЯ ОРГАНИЗАЦИЯ ПРОФСОЮЗА РАБОТНИКОВ НАРОДНОГО ОБРАЗОВАНИЯ И НАУКИ Р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286080" y="1857240"/>
            <a:ext cx="260820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ИТЕЛЬ</a:t>
            </a:r>
            <a:br>
              <a:rPr sz="18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трасль «Образование»   ПГК 3-4    педагогический персонал   городская местность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авка 1,44   Стаж 7   Категория вторая   Образование Высшее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оимость балла = 15,99 руб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итель иностранного языка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4200" y="2000160"/>
          <a:ext cx="8572680" cy="3478320"/>
        </p:xfrm>
        <a:graphic>
          <a:graphicData uri="http://schemas.openxmlformats.org/drawingml/2006/table">
            <a:tbl>
              <a:tblPr/>
              <a:tblGrid>
                <a:gridCol w="1928880"/>
                <a:gridCol w="1071720"/>
                <a:gridCol w="1714320"/>
                <a:gridCol w="1143000"/>
                <a:gridCol w="1785960"/>
                <a:gridCol w="928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аименование выплаты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1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2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Рост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ной оклад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52,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1,5*1,4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59,7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1,5*1,4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4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352,8*1,5%*17/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,3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959,79*6%*17/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5,9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,4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352,8*7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5,9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959,79*1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,8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352,8*4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8,1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959,79*4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ное руковод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00+30*1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00+50*1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дование кабинетом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,4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3,7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,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8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,1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1,5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15,99*1,4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3,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31,98*1,4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м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,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2824,47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,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6092,2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Итого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3081,0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6414,0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25,5%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ИТЕЛЬ</a:t>
            </a:r>
            <a:br>
              <a:rPr sz="18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трасль «Образование»   ПГК 3-4    педагогический персонал   городская местность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авка 1,0   Стаж 7   Категория первая   Образование Высшее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оимость балла = 15,99 руб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4200" y="2000160"/>
          <a:ext cx="8572680" cy="3478320"/>
        </p:xfrm>
        <a:graphic>
          <a:graphicData uri="http://schemas.openxmlformats.org/drawingml/2006/table">
            <a:tbl>
              <a:tblPr/>
              <a:tblGrid>
                <a:gridCol w="1928880"/>
                <a:gridCol w="1071720"/>
                <a:gridCol w="1714320"/>
                <a:gridCol w="1143000"/>
                <a:gridCol w="1785960"/>
                <a:gridCol w="928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аименование выплаты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1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2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Рост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ной оклад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9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1,5*1,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1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1,5*1,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9,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495*6%*25/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1,6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916*10%*25/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9,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495*1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3,2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916*2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,2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495*4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,2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916*4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ное руковод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00+30*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00+50*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дование кабинетом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,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3,7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,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8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,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9,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15,99*1,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8,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31,98*1,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м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898,28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,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3139,75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Итого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0096,3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3402,55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32,7%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ИТЕЛЬ</a:t>
            </a:r>
            <a:br>
              <a:rPr sz="18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трасль «Образование»   ПГК 3-4    педагогический персонал   городская местность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авка 1,25   Стаж 20   Категория высшая   Образование Высшее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оимость балла = 16,35 руб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итель биологии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14200" y="2000160"/>
          <a:ext cx="8572680" cy="3478320"/>
        </p:xfrm>
        <a:graphic>
          <a:graphicData uri="http://schemas.openxmlformats.org/drawingml/2006/table">
            <a:tbl>
              <a:tblPr/>
              <a:tblGrid>
                <a:gridCol w="1928880"/>
                <a:gridCol w="1071720"/>
                <a:gridCol w="1714320"/>
                <a:gridCol w="1143000"/>
                <a:gridCol w="1785960"/>
                <a:gridCol w="928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аименование выплаты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1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2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Рост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ной оклад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18,7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1,5*1,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5,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1,5*1,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1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118,75*1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9,3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645,6*3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9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7,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118,75*1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8,2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645,6*4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7,72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118,75*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,9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645,6*4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ное руковод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00+30*2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00+50*2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дование кабинетом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,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3,7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,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8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,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6,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16,35*1,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2,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32,7*1,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м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,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1971,73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,93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7046,57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Итого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2373,51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7387,5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40,5%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ИТЕЛЬ</a:t>
            </a:r>
            <a:br>
              <a:rPr sz="18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трасль «Образование»   ПГК 3-4    педагогический персонал   сельская местность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авка 1,0   Стаж 26   Категория нет   Образование среднее специальное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оимость балла = 14,89 руб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итель начальных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 классов (8 чел.)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14200" y="2000160"/>
          <a:ext cx="8572680" cy="3764160"/>
        </p:xfrm>
        <a:graphic>
          <a:graphicData uri="http://schemas.openxmlformats.org/drawingml/2006/table">
            <a:tbl>
              <a:tblPr/>
              <a:tblGrid>
                <a:gridCol w="1928880"/>
                <a:gridCol w="1071720"/>
                <a:gridCol w="1714320"/>
                <a:gridCol w="1143000"/>
                <a:gridCol w="1785960"/>
                <a:gridCol w="928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аименование выплаты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1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2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Рост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ной оклад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25,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1,23*1,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71,53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1,23*1,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,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5325,9*6%*8/1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,1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5671,53*10*8/14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,1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5325,9*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,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5671,53*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ное руковод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200+30*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300+50*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дование кабинетом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,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3,7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,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8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ной язык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,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5325,9*4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0,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5671,53*9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,8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ие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2,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2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2,7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2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3,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14,89*1,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6,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29,78*1,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м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,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7590,18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,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729,93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4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Итого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8824,48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1077,3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25,5%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ИТЕЛЬ</a:t>
            </a:r>
            <a:br>
              <a:rPr sz="18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трасль «Образование»   ПГК 3-4    педагогический персонал   городская местность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аж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&gt;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15   Образование Высшее Стоимость балла = 17 руб.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итель химии, отличник просвещения, руководитель метод. объединения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42920" y="1357200"/>
          <a:ext cx="8858160" cy="5413320"/>
        </p:xfrm>
        <a:graphic>
          <a:graphicData uri="http://schemas.openxmlformats.org/drawingml/2006/table">
            <a:tbl>
              <a:tblPr/>
              <a:tblGrid>
                <a:gridCol w="2357280"/>
                <a:gridCol w="642960"/>
                <a:gridCol w="642960"/>
                <a:gridCol w="642960"/>
                <a:gridCol w="714600"/>
                <a:gridCol w="642600"/>
                <a:gridCol w="642960"/>
                <a:gridCol w="642960"/>
                <a:gridCol w="642960"/>
                <a:gridCol w="642960"/>
                <a:gridCol w="642960"/>
              </a:tblGrid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выплаты</a:t>
                      </a:r>
                      <a:endParaRPr b="1" lang="en-US" sz="2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вка  1,0 (18ч)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вка 1,33 (24ч)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шая категор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шая категор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ОТ 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ОТ 2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ОТ 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ОТ 2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ОТ 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ОТ 2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ОТ 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ОТ 2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ОТ 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ОТ 2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зовый оклад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9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1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9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1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9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1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3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3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1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алификация 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1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2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3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ное руководство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дование кабинетом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ководство метод. объединением</a:t>
                      </a:r>
                      <a:endParaRPr b="1" lang="en-US" sz="14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грады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1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1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6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3 +26,7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7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2,4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5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5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1,3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9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6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8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1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0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7,7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РАБОТНАЯ ПЛАТА УЧИТЕЛ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НОВОЙ СИСТЕМЕ ОПЛАТЫ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Скругленный прямоугольник 3"/>
          <p:cNvGrpSpPr/>
          <p:nvPr/>
        </p:nvGrpSpPr>
        <p:grpSpPr>
          <a:xfrm>
            <a:off x="1152360" y="4675320"/>
            <a:ext cx="2187720" cy="1182600"/>
            <a:chOff x="1152360" y="4675320"/>
            <a:chExt cx="2187720" cy="1182600"/>
          </a:xfrm>
        </p:grpSpPr>
        <p:pic>
          <p:nvPicPr>
            <p:cNvPr id="52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152360" y="4675320"/>
              <a:ext cx="21877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66840" y="4767120"/>
              <a:ext cx="196704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609480" indent="-60948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1f497d"/>
                </a:solidFill>
                <a:latin typeface="Tahoma"/>
              </a:endParaRPr>
            </a:p>
          </p:txBody>
        </p:sp>
      </p:grpSp>
      <p:grpSp>
        <p:nvGrpSpPr>
          <p:cNvPr id="54" name="Скругленный прямоугольник 4"/>
          <p:cNvGrpSpPr/>
          <p:nvPr/>
        </p:nvGrpSpPr>
        <p:grpSpPr>
          <a:xfrm>
            <a:off x="1152360" y="3462480"/>
            <a:ext cx="2187720" cy="1182600"/>
            <a:chOff x="1152360" y="3462480"/>
            <a:chExt cx="2187720" cy="1182600"/>
          </a:xfrm>
        </p:grpSpPr>
        <p:pic>
          <p:nvPicPr>
            <p:cNvPr id="55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152360" y="3462480"/>
              <a:ext cx="21877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266840" y="3552840"/>
              <a:ext cx="196704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609480" indent="-60948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1f497d"/>
                </a:solidFill>
                <a:latin typeface="Tahoma"/>
              </a:endParaRPr>
            </a:p>
          </p:txBody>
        </p:sp>
      </p:grpSp>
      <p:grpSp>
        <p:nvGrpSpPr>
          <p:cNvPr id="57" name="Скругленный прямоугольник 5"/>
          <p:cNvGrpSpPr/>
          <p:nvPr/>
        </p:nvGrpSpPr>
        <p:grpSpPr>
          <a:xfrm>
            <a:off x="1152360" y="2249640"/>
            <a:ext cx="2187720" cy="1182600"/>
            <a:chOff x="1152360" y="2249640"/>
            <a:chExt cx="2187720" cy="1182600"/>
          </a:xfrm>
        </p:grpSpPr>
        <p:pic>
          <p:nvPicPr>
            <p:cNvPr id="58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1152360" y="2249640"/>
              <a:ext cx="21877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266840" y="2338560"/>
              <a:ext cx="196704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609480" indent="-60948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1f497d"/>
                </a:solidFill>
                <a:latin typeface="Tahoma"/>
              </a:endParaRPr>
            </a:p>
          </p:txBody>
        </p:sp>
      </p:grpSp>
      <p:grpSp>
        <p:nvGrpSpPr>
          <p:cNvPr id="60" name="Скругленный прямоугольник 10"/>
          <p:cNvGrpSpPr/>
          <p:nvPr/>
        </p:nvGrpSpPr>
        <p:grpSpPr>
          <a:xfrm>
            <a:off x="3651120" y="3462480"/>
            <a:ext cx="4548240" cy="1182600"/>
            <a:chOff x="3651120" y="3462480"/>
            <a:chExt cx="4548240" cy="1182600"/>
          </a:xfrm>
        </p:grpSpPr>
        <p:pic>
          <p:nvPicPr>
            <p:cNvPr id="61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3651120" y="3462480"/>
              <a:ext cx="45482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67040" y="3552840"/>
              <a:ext cx="4324320" cy="9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609480" indent="-60948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1f497d"/>
                </a:solidFill>
                <a:latin typeface="Tahoma"/>
              </a:endParaRPr>
            </a:p>
          </p:txBody>
        </p:sp>
      </p:grpSp>
      <p:grpSp>
        <p:nvGrpSpPr>
          <p:cNvPr id="63" name="Скругленный прямоугольник 12"/>
          <p:cNvGrpSpPr/>
          <p:nvPr/>
        </p:nvGrpSpPr>
        <p:grpSpPr>
          <a:xfrm>
            <a:off x="3651120" y="4675320"/>
            <a:ext cx="4548240" cy="1182600"/>
            <a:chOff x="3651120" y="4675320"/>
            <a:chExt cx="4548240" cy="1182600"/>
          </a:xfrm>
        </p:grpSpPr>
        <p:pic>
          <p:nvPicPr>
            <p:cNvPr id="64" name="Скругленный прямоугольник 12" descr=""/>
            <p:cNvPicPr/>
            <p:nvPr/>
          </p:nvPicPr>
          <p:blipFill>
            <a:blip r:embed="rId5"/>
            <a:stretch/>
          </p:blipFill>
          <p:spPr>
            <a:xfrm>
              <a:off x="3651120" y="4675320"/>
              <a:ext cx="45482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67040" y="4767120"/>
              <a:ext cx="432432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609480" indent="-609480"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1f497d"/>
                </a:solidFill>
                <a:latin typeface="Tahoma"/>
              </a:endParaRPr>
            </a:p>
          </p:txBody>
        </p:sp>
      </p:grpSp>
      <p:sp>
        <p:nvSpPr>
          <p:cNvPr id="66" name="TextBox 13"/>
          <p:cNvSpPr/>
          <p:nvPr/>
        </p:nvSpPr>
        <p:spPr>
          <a:xfrm>
            <a:off x="1214280" y="2428920"/>
            <a:ext cx="20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ahoma"/>
              </a:rPr>
              <a:t>БАЗОВЫЕ ОКЛАДЫ (ДОЛЖНОСТНЫЕ ОКЛАДЫ, СТАВКИ ЗАРАБОТНОЙ ПЛАТЫ)</a:t>
            </a:r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1214280" y="3714840"/>
            <a:ext cx="20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ahoma"/>
              </a:rPr>
              <a:t>ВЫПЛАТЫ СТИМУЛИРУЮЩЕГО ХАРАКТЕРА</a:t>
            </a:r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1214280" y="4929120"/>
            <a:ext cx="20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ahoma"/>
              </a:rPr>
              <a:t>ВЫПЛАТЫ КОМПЕНСАЦИОННОГО ХАРАКТЕРА</a:t>
            </a:r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3714840" y="3571920"/>
            <a:ext cx="442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ahoma"/>
              </a:rPr>
              <a:t>НАДБАВКИ И ДОПЛАТЫ В ЗАВИСИМОСТИ ОТ ПРИНАДЛЕЖНОСТИ ДОЛЖНОСТИ К ПРОФЕССИОНАЛЬНО-КВАЛИФИКАЦИОННОЙ ГРУППЕ</a:t>
            </a:r>
            <a:endParaRPr b="1" lang="en-US" sz="1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0" name="TextBox 21"/>
          <p:cNvSpPr/>
          <p:nvPr/>
        </p:nvSpPr>
        <p:spPr>
          <a:xfrm>
            <a:off x="3643200" y="4929120"/>
            <a:ext cx="44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ahoma"/>
              </a:rPr>
              <a:t>СОГЛАСНО ТРУДОВОГО КОДЕКСА РОССИЙСКОЙ ФЕДЕРАЦИИ</a:t>
            </a:r>
            <a:endParaRPr b="1" lang="en-US" sz="1600" spc="-1" strike="noStrike">
              <a:solidFill>
                <a:srgbClr val="1f497d"/>
              </a:solidFill>
              <a:latin typeface="Tahoma"/>
            </a:endParaRPr>
          </a:p>
        </p:txBody>
      </p:sp>
      <p:grpSp>
        <p:nvGrpSpPr>
          <p:cNvPr id="71" name="Скругленный прямоугольник 20"/>
          <p:cNvGrpSpPr/>
          <p:nvPr/>
        </p:nvGrpSpPr>
        <p:grpSpPr>
          <a:xfrm>
            <a:off x="4438800" y="2189160"/>
            <a:ext cx="2973240" cy="1041480"/>
            <a:chOff x="4438800" y="2189160"/>
            <a:chExt cx="2973240" cy="1041480"/>
          </a:xfrm>
        </p:grpSpPr>
        <p:pic>
          <p:nvPicPr>
            <p:cNvPr id="72" name="Скругленный прямоугольник 20" descr=""/>
            <p:cNvPicPr/>
            <p:nvPr/>
          </p:nvPicPr>
          <p:blipFill>
            <a:blip r:embed="rId6"/>
            <a:stretch/>
          </p:blipFill>
          <p:spPr>
            <a:xfrm>
              <a:off x="4438800" y="2189160"/>
              <a:ext cx="297324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4541760" y="2327400"/>
              <a:ext cx="27748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ЧЕТЫРЕХРАЗРЯДНАЯ </a:t>
              </a:r>
              <a:endParaRPr b="1" lang="en-US" sz="1800" spc="-1" strike="noStrike">
                <a:solidFill>
                  <a:srgbClr val="1f497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ТАРИФНАЯ </a:t>
              </a:r>
              <a:endParaRPr b="1" lang="en-US" sz="1800" spc="-1" strike="noStrike">
                <a:solidFill>
                  <a:srgbClr val="1f497d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alibri"/>
                </a:rPr>
                <a:t>СЕТКА</a:t>
              </a:r>
              <a:endParaRPr b="1" lang="en-US" sz="1800" spc="-1" strike="noStrike">
                <a:solidFill>
                  <a:srgbClr val="1f497d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ФЕССИОНАЛЬНО-КВАЛИФИКАЦИОННАЯ ГРУППА РАБОТНИКОВ ОБРАЗОВ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14200" y="1071720"/>
          <a:ext cx="8715600" cy="5551200"/>
        </p:xfrm>
        <a:graphic>
          <a:graphicData uri="http://schemas.openxmlformats.org/drawingml/2006/table">
            <a:tbl>
              <a:tblPr/>
              <a:tblGrid>
                <a:gridCol w="1071720"/>
                <a:gridCol w="2071800"/>
                <a:gridCol w="2273040"/>
                <a:gridCol w="1665360"/>
                <a:gridCol w="1633680"/>
              </a:tblGrid>
              <a:tr h="402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мер группы/ уровня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а 4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а 3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а 2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а 1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и руководителей структурных подразделений</a:t>
                      </a:r>
                      <a:endParaRPr b="1" lang="en-US" sz="13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и педагогических работников</a:t>
                      </a:r>
                      <a:endParaRPr b="1" lang="en-US" sz="13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и работников учебно-вспомогательного персонала второго уровня</a:t>
                      </a:r>
                      <a:endParaRPr b="1" lang="en-US" sz="13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и работников учебно-вспомогательного персонала первого уровня</a:t>
                      </a:r>
                      <a:endParaRPr b="1" lang="en-US" sz="13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уровень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дующий ( начальник) структурным подразделением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ктор по труду, инструктор по физической культуре, музыкальный руководитель, старший вожатый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журный по режиму, младший воспитатель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жатый, помощник воспитателя, секретарь учебной части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уровень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едующий ( начальник) обособленным структурным подразделением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ктор-методист, концертмейстер, педагог дополнительного образования, педагог-организатор, социальный педагог, тренер-преподаватель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петчер образовательного учреждения, старший дежурный по режиму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уровень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ьник обособленного структурного подразделения образовательного учреждения (подразделения) НПО и СПО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тер производственного обучения, методист, педагог-психолог, старший инструктор-методист, старший педагог дополнительного образования, старший тренер-преподаватель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уровень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одаватель, преподаватель-организатор ОБЖ, руководитель физического воспитания, старший воспитатель, старший методист,, учитель, учитель-дефектолог, учитель-логопед (логопед)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857160" y="500040"/>
            <a:ext cx="785808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АЗОВЫЕ ОКЛАДЫ </a:t>
            </a:r>
            <a:endParaRPr b="1" lang="en-US" sz="2800" spc="-1" strike="noStrike">
              <a:solidFill>
                <a:srgbClr val="1f497d"/>
              </a:solidFill>
              <a:latin typeface="Tahom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РАСЛЕВЫХ СПЕЦИАЛИСТОВ</a:t>
            </a:r>
            <a:endParaRPr b="1" lang="en-US" sz="2800" spc="-1" strike="noStrike">
              <a:solidFill>
                <a:srgbClr val="1f497d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928800" y="1785960"/>
          <a:ext cx="7286400" cy="1928880"/>
        </p:xfrm>
        <a:graphic>
          <a:graphicData uri="http://schemas.openxmlformats.org/drawingml/2006/table">
            <a:tbl>
              <a:tblPr/>
              <a:tblGrid>
                <a:gridCol w="2509560"/>
                <a:gridCol w="1175040"/>
                <a:gridCol w="1257120"/>
                <a:gridCol w="1171800"/>
                <a:gridCol w="1172880"/>
              </a:tblGrid>
              <a:tr h="64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alibri"/>
                          <a:ea typeface="Times New Roman"/>
                        </a:rPr>
                        <a:t>Разряды оплаты труда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Calibri"/>
                          <a:ea typeface="Times New Roman"/>
                        </a:rPr>
                        <a:t>Межразрядные коэффициенты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Calibri"/>
                          <a:ea typeface="Times New Roman"/>
                        </a:rPr>
                        <a:t>1,0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Calibri"/>
                          <a:ea typeface="Times New Roman"/>
                        </a:rPr>
                        <a:t>1,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Calibri"/>
                          <a:ea typeface="Times New Roman"/>
                        </a:rPr>
                        <a:t>1,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Calibri"/>
                          <a:ea typeface="Times New Roman"/>
                        </a:rPr>
                        <a:t>1,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3e"/>
                          </a:solidFill>
                          <a:latin typeface="Calibri"/>
                          <a:ea typeface="Times New Roman"/>
                        </a:rPr>
                        <a:t>Размер базового оклада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3e"/>
                          </a:solidFill>
                          <a:latin typeface="Calibri"/>
                          <a:ea typeface="Times New Roman"/>
                        </a:rPr>
                        <a:t>4611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3e"/>
                          </a:solidFill>
                          <a:latin typeface="Calibri"/>
                          <a:ea typeface="Times New Roman"/>
                        </a:rPr>
                        <a:t>5671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3e"/>
                          </a:solidFill>
                          <a:latin typeface="Calibri"/>
                          <a:ea typeface="Times New Roman"/>
                        </a:rPr>
                        <a:t>6594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a3e"/>
                          </a:solidFill>
                          <a:latin typeface="Calibri"/>
                          <a:ea typeface="Times New Roman"/>
                        </a:rPr>
                        <a:t>6916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78" name="TextBox 24"/>
          <p:cNvSpPr/>
          <p:nvPr/>
        </p:nvSpPr>
        <p:spPr>
          <a:xfrm>
            <a:off x="7056360" y="2087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928800" y="3786120"/>
            <a:ext cx="7286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</a:rPr>
              <a:t>1 разряд – основное общее и среднее (полное) общее                    образование</a:t>
            </a:r>
            <a:endParaRPr b="1" lang="en-US" sz="1600" spc="-1" strike="noStrike">
              <a:solidFill>
                <a:srgbClr val="1f497d"/>
              </a:solidFill>
              <a:latin typeface="Tahoma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</a:rPr>
              <a:t>2 разряд – начальное и среднее профессиональное образование</a:t>
            </a:r>
            <a:endParaRPr b="1" lang="en-US" sz="1600" spc="-1" strike="noStrike">
              <a:solidFill>
                <a:srgbClr val="1f497d"/>
              </a:solidFill>
              <a:latin typeface="Tahoma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</a:rPr>
              <a:t>3 разряд – высшее профессиональное образование, квалификация «бакалавр»</a:t>
            </a:r>
            <a:endParaRPr b="1" lang="en-US" sz="1600" spc="-1" strike="noStrike">
              <a:solidFill>
                <a:srgbClr val="1f497d"/>
              </a:solidFill>
              <a:latin typeface="Tahoma"/>
            </a:endParaRPr>
          </a:p>
          <a:p>
            <a:pPr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</a:rPr>
              <a:t>4 разряд – высшее профессиональное образование квалификация «магистр» или «дипломированный специалист»</a:t>
            </a:r>
            <a:endParaRPr b="1" lang="en-US" sz="1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1071720" y="5643720"/>
            <a:ext cx="72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ТАРИФНАЯ СТАВКА ПЕРВОГО РАЗРЯДА – 4611 РУБЛЕЙ</a:t>
            </a:r>
            <a:endParaRPr b="1" lang="en-US" sz="2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928800" y="135720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ahoma"/>
              </a:rPr>
              <a:t>ЧЕТЫРЕХРАЗРЯДНАЯ ТАРИФНАЯ СЕТКА</a:t>
            </a:r>
            <a:endParaRPr b="1" lang="en-US" sz="2000" spc="-1" strike="noStrike">
              <a:solidFill>
                <a:srgbClr val="1f497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14200" y="0"/>
          <a:ext cx="8715600" cy="6873840"/>
        </p:xfrm>
        <a:graphic>
          <a:graphicData uri="http://schemas.openxmlformats.org/drawingml/2006/table">
            <a:tbl>
              <a:tblPr/>
              <a:tblGrid>
                <a:gridCol w="1285920"/>
                <a:gridCol w="5286600"/>
                <a:gridCol w="1071360"/>
                <a:gridCol w="1071720"/>
              </a:tblGrid>
              <a:tr h="596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1" lang="en-US" sz="2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мер надбавки действующий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я по изменению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ЛАД</a:t>
                      </a:r>
                      <a:endParaRPr b="1" lang="en-US" sz="14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АУДИТОРНАЯ ЗАНЯТОСТЬ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ное руковод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р – ребенок, 200р - класс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р – ребенок, 300р - класс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 в начальных классах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 по русскому языку, родному языку и литературе, математике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 по иностранному языку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 по информатике, биологии, химии, физике и географии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заведование учебно-опытным участком, мастерскими, спортзалом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руководство предметной, методической и цикловой комиссией (объединением)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заведование кабинетом, музеем, лабораторией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ЛАТЫ СТИМУЛИРУЮ-ЩЕГО ХАРАКТЕР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эффициент квалификации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%-1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-4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таж по профилю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-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-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бавка за специфику. За работу в специальных (коррекционных) образовательных учреждениях, отделениях, лицеях, гимназиях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бавка за специфику. Преподавание родного языка, применение иностранного языка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бавка за специфику. Специальные учебно-вспомогательные учреждения для учеников с девиантным поведением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бавка за специфику. Общеобразовательные учреждения для детей-сирот, учреждения санаторного типа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управление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%-87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-87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ложность и напряженность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платы за качество  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не менее 26 %, в дальнейшем для расчетов взята 30%)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латы за награды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-1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-1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мия 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менее 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менее 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85920"/>
          <a:ext cx="9144000" cy="4660920"/>
        </p:xfrm>
        <a:graphic>
          <a:graphicData uri="http://schemas.openxmlformats.org/drawingml/2006/table">
            <a:tbl>
              <a:tblPr/>
              <a:tblGrid>
                <a:gridCol w="1357200"/>
                <a:gridCol w="1428840"/>
                <a:gridCol w="857160"/>
                <a:gridCol w="714600"/>
                <a:gridCol w="1071360"/>
                <a:gridCol w="1143000"/>
                <a:gridCol w="928800"/>
                <a:gridCol w="928800"/>
                <a:gridCol w="714240"/>
              </a:tblGrid>
              <a:tr h="4287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1" lang="en-US" sz="18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ельный вес работников (%)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вки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Т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яя зарплата на ставку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, %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703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щий</a:t>
                      </a:r>
                      <a:endParaRPr b="1" lang="en-US" sz="9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учетом изменений</a:t>
                      </a:r>
                      <a:endParaRPr b="1" lang="en-US" sz="9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ующий</a:t>
                      </a:r>
                      <a:endParaRPr b="1" lang="en-US" sz="9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учетом изменений</a:t>
                      </a:r>
                      <a:endParaRPr b="1" lang="en-US" sz="9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риториальная дислокация</a:t>
                      </a:r>
                      <a:endParaRPr b="1" lang="en-US" sz="11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ская местность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028,5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 007 778,4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 124 025,99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69,7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191,05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ая местность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897,50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 873 959,66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 677 236,40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045,18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98,4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926,0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1 881 738,1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 801 262,39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613,1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371,48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62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</a:t>
                      </a:r>
                      <a:endParaRPr b="1" lang="en-US" sz="14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шая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0,3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212 308,5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 697 421,4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381,66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492,18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ая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4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512,85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 791 560,2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 033 975,6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931,48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916,3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торая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274,80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200 944,35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 077 739,7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596,7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980,50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категории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9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98,0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676 924,98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 992 125,64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584,4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639,64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926,0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1 881 738,1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 801 262,39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613,1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371,48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62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1" lang="en-US" sz="14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шее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6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445,35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 025 909,58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 635 957,6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806,80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638,8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алавр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15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 111,3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 825,30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103,1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480,50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лное высшее, среднее специальное, начальное профессиональное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434,5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435 717,22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 635 479,42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459,94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511,3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926,0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1 881 738,13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 801 262,39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613,1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371,48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«учитель»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6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864,40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 481 701,61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 241 648,09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631,54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407,37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,8</a:t>
                      </a:r>
                      <a:endParaRPr b="1" lang="en-US" sz="10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  <p:sp>
        <p:nvSpPr>
          <p:cNvPr id="84" name="TextBox 3"/>
          <p:cNvSpPr/>
          <p:nvPr/>
        </p:nvSpPr>
        <p:spPr>
          <a:xfrm>
            <a:off x="7929720" y="107172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в рублях</a:t>
            </a:r>
            <a:endParaRPr b="1" lang="en-US" sz="10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857160" y="28584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формация по заработной плате по учителям (ПКГ 3-4) учителя</a:t>
            </a:r>
            <a:endParaRPr b="1" lang="en-US" sz="2800" spc="-1" strike="noStrike">
              <a:solidFill>
                <a:srgbClr val="1f497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480" y="178596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 Black"/>
              </a:rPr>
              <a:t>Новая система оплаты труда работников общеобразовательных учреждений в Республике Татарс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ИТЕЛЬ</a:t>
            </a:r>
            <a:br>
              <a:rPr sz="18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трасль «Образование»   ПГК 3-4    педагогический персонал   городская местность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авка 0,97   Стаж 33   Категория нет   Образование Высшее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оимость балла = 15,99 руб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итель русского языка и литературы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2000160"/>
          <a:ext cx="8572680" cy="2610000"/>
        </p:xfrm>
        <a:graphic>
          <a:graphicData uri="http://schemas.openxmlformats.org/drawingml/2006/table">
            <a:tbl>
              <a:tblPr/>
              <a:tblGrid>
                <a:gridCol w="1928880"/>
                <a:gridCol w="1071720"/>
                <a:gridCol w="1714320"/>
                <a:gridCol w="1143000"/>
                <a:gridCol w="1785960"/>
                <a:gridCol w="928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аименование выплаты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1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2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Рост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ной оклад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00,1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1,5*0,9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9,0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1,5*0,9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ж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9,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300,15*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6,0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709,0*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300,15*6%*25/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,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709,0*10%*25/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0,62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15,99*0,9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1,2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31,98*0,97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м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,3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8018,27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,5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677,22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Итого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8178,63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9870,76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20,7%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УЧИТЕЛЬ</a:t>
            </a:r>
            <a:br>
              <a:rPr sz="18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трасль «Образование»   ПГК 3-4    педагогический персонал   городская местность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авка 1,49   Стаж 0   Категория нет   Образование Высшее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оимость балла = 16,35 руб.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4200" y="2000160"/>
          <a:ext cx="8572680" cy="2906640"/>
        </p:xfrm>
        <a:graphic>
          <a:graphicData uri="http://schemas.openxmlformats.org/drawingml/2006/table">
            <a:tbl>
              <a:tblPr/>
              <a:tblGrid>
                <a:gridCol w="1928880"/>
                <a:gridCol w="1071720"/>
                <a:gridCol w="1714320"/>
                <a:gridCol w="1143000"/>
                <a:gridCol w="1785960"/>
                <a:gridCol w="9288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аименование выплаты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1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НСОТ 2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Рост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Сумм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9999"/>
                          </a:solidFill>
                          <a:latin typeface="Calibri"/>
                        </a:rPr>
                        <a:t>Параметр расче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лжностной оклад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77,5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1,5*1,4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5,5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1,5*1,4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ка тетрадей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0,6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300,15*6%*25/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,6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0305,58*10%*25/2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молодого специалиста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6,00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330*2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,2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4611*2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пецифику (гимназия)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5,4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9677,55*4,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7,5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0305,58*9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чество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1,6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16,35*1,4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3,38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60 баллов*32,7*1,49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мия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,11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2155,38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,74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15187,06*2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%</a:t>
                      </a: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Итого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3264,5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6413,0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Calibri"/>
                        </a:rPr>
                        <a:t>123,7%</a:t>
                      </a:r>
                      <a:endParaRPr b="1" lang="en-US" sz="1600" spc="-1" strike="noStrike">
                        <a:solidFill>
                          <a:srgbClr val="1f497d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4:32:22Z</dcterms:created>
  <dc:creator>none</dc:creator>
  <dc:description/>
  <dc:language>en-US</dc:language>
  <cp:lastModifiedBy>Азгат Хайдарович</cp:lastModifiedBy>
  <dcterms:modified xsi:type="dcterms:W3CDTF">2011-08-26T10:21:43Z</dcterms:modified>
  <cp:revision>353</cp:revision>
  <dc:subject/>
  <dc:title>Слайд 1</dc:title>
</cp:coreProperties>
</file>